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043-9DBA-4791-BF72-2C8735E7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378-10D1-4845-8036-56BFD818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1BF-8FC9-4AB9-996E-651DCCF2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291-F71F-443B-8275-46454BE1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7D8-80A3-4BA7-9C80-DA771C0B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3EC-4C6E-491E-9DA1-F16F3DCA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D49-6946-4C4C-A816-8223837B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A09-5629-4632-90A2-17EF56B1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AC0-B19A-43B6-B84B-ED182518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234-BB1D-461A-A60A-70E9BC0D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485-3E15-4D9D-A4A8-109B8214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B60-1AC8-4AF7-81B2-93355979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4176-6551-4AA1-9F74-B438E621A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-2630520" y="2630520"/>
            <a:ext cx="6858000" cy="159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Comic Sans MS"/>
              </a:rPr>
              <a:t>Rikke Hoffmann Mill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7451640" y="189000"/>
            <a:ext cx="1440000" cy="1224000"/>
          </a:xfrm>
          <a:custGeom>
            <a:avLst/>
            <a:gdLst>
              <a:gd name="textAreaLeft" fmla="*/ 338400 w 1440000"/>
              <a:gd name="textAreaRight" fmla="*/ 1100520 w 1440000"/>
              <a:gd name="textAreaTop" fmla="*/ 143640 h 1224000"/>
              <a:gd name="textAreaBottom" fmla="*/ 767880 h 1224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77080" y="981000"/>
            <a:ext cx="934920" cy="792360"/>
          </a:xfrm>
          <a:custGeom>
            <a:avLst/>
            <a:gdLst>
              <a:gd name="textAreaLeft" fmla="*/ 219600 w 934920"/>
              <a:gd name="textAreaRight" fmla="*/ 714600 w 93492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1197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907920"/>
            <a:ext cx="5689800" cy="4969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2349360"/>
            <a:ext cx="3025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llo !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 name is Rik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am in class 7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ike pet’s &lt;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 best friends called Amalie, Nanna &amp; Freja :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84960" y="4365720"/>
            <a:ext cx="1859040" cy="2492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451640" y="2852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me :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12000" y="3357720"/>
            <a:ext cx="576360" cy="863280"/>
          </a:xfrm>
          <a:prstGeom prst="downArrow">
            <a:avLst>
              <a:gd name="adj1" fmla="val 50000"/>
              <a:gd name="adj2" fmla="val 37445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1873440" cy="124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27640" y="1052640"/>
            <a:ext cx="208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dog who look like my dog Mizzy &lt;3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09960" y="-517680"/>
            <a:ext cx="819000" cy="2232000"/>
          </a:xfrm>
          <a:custGeom>
            <a:avLst/>
            <a:gdLst>
              <a:gd name="textAreaLeft" fmla="*/ 272880 w 819000"/>
              <a:gd name="textAreaRight" fmla="*/ 701640 w 819000"/>
              <a:gd name="textAreaTop" fmla="*/ 1285560 h 2232000"/>
              <a:gd name="textAreaBottom" fmla="*/ 19119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20:05Z</dcterms:created>
  <dc:creator>02a15</dc:creator>
  <dc:description/>
  <dc:language>en-US</dc:language>
  <cp:lastModifiedBy>02a15</cp:lastModifiedBy>
  <dcterms:modified xsi:type="dcterms:W3CDTF">2010-02-09T09:46:23Z</dcterms:modified>
  <cp:revision>2</cp:revision>
  <dc:subject/>
  <dc:title>Dias nummer 1</dc:title>
</cp:coreProperties>
</file>